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52F71913-25AF-4307-AFC7-B56DDBD550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284EC1D0-0BCD-4215-8371-EE97F7397A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984FBFB2-851B-4F8B-BD5E-B862C2A02A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5AAF04DC-24D6-4380-8E58-2F35C80B5E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77C7B989-CEBB-43CA-AB7E-D3F148A195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46458-B5CC-44F4-A7A5-BA4994D01C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8683C-D568-4A87-894B-BD8BC63B78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E1CFF-AEB7-41D4-B3F9-030AFDC855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5731E-D2DB-4EAD-AC46-B980C3F0FF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D011F-1F54-4AB9-A3CD-EAF77038CE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68A51-81AC-4671-9D6E-5B2A1A00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CD3D1-0FBA-41AC-A04A-5376E50D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4B336-BA7A-4781-86C3-94E158B0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0D6E9-03CC-42EA-AB0B-86DF481F5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BECAB-0AFD-4443-913A-44C694039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9B2AC-B509-45D7-A611-54918510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440E0-7BDA-4219-8433-AD6BD72BFC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7177F-1E02-4EA4-9FBE-554A02A5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49563-B9D1-43DB-9A9B-753AA3E9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1A9C8-3E2E-4C9B-9B5E-D1A6C3BF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228C9-6DF9-4358-8116-82A7A17B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5DFC8-C0E5-4645-9509-5C88EE3943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66AA9-658C-4F86-B2CB-3A67942F33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B6ADD-43B2-4D31-B09A-1B430D76E1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AABC0-8A3E-4983-8C5A-C9AFC2410B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2167D-D2D5-4144-80B5-573D6FDFF8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D862F-1F6F-4A60-A45E-91199F8276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37325-E085-43E0-B646-4B71712F10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364D3-F3E0-4DAD-BA64-24C4D6A575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43CE-6679-47BA-A6C9-9B15BCCD8638}" type="slidenum">
              <a:rPr b="0" lang="fr-B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7" descr="EENRD_EN"/>
          <p:cNvPicPr/>
          <p:nvPr/>
        </p:nvPicPr>
        <p:blipFill>
          <a:blip r:embed="rId2"/>
          <a:stretch/>
        </p:blipFill>
        <p:spPr>
          <a:xfrm>
            <a:off x="6553080" y="237960"/>
            <a:ext cx="2181240" cy="676440"/>
          </a:xfrm>
          <a:prstGeom prst="rect">
            <a:avLst/>
          </a:prstGeom>
          <a:ln w="0">
            <a:noFill/>
          </a:ln>
        </p:spPr>
      </p:pic>
      <p:sp>
        <p:nvSpPr>
          <p:cNvPr id="5" name="Rectangle 29"/>
          <p:cNvSpPr/>
          <p:nvPr/>
        </p:nvSpPr>
        <p:spPr>
          <a:xfrm>
            <a:off x="3348000" y="6381720"/>
            <a:ext cx="259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valuation Expert Committee 3rd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468360" y="6432480"/>
            <a:ext cx="13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07 Dec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2" descr="EENRD_EN"/>
          <p:cNvPicPr/>
          <p:nvPr/>
        </p:nvPicPr>
        <p:blipFill>
          <a:blip r:embed="rId2"/>
          <a:stretch/>
        </p:blipFill>
        <p:spPr>
          <a:xfrm>
            <a:off x="6553080" y="237960"/>
            <a:ext cx="2181240" cy="676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9" descr="arbre32"/>
          <p:cNvPicPr/>
          <p:nvPr/>
        </p:nvPicPr>
        <p:blipFill>
          <a:blip r:embed="rId3"/>
          <a:stretch/>
        </p:blipFill>
        <p:spPr>
          <a:xfrm>
            <a:off x="0" y="2724120"/>
            <a:ext cx="5311800" cy="35784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1"/>
          <p:cNvSpPr/>
          <p:nvPr/>
        </p:nvSpPr>
        <p:spPr>
          <a:xfrm>
            <a:off x="3348000" y="6381720"/>
            <a:ext cx="259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valuation Expert Committee 3rd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3"/>
          </p:nvPr>
        </p:nvSpPr>
        <p:spPr>
          <a:xfrm>
            <a:off x="468360" y="6381360"/>
            <a:ext cx="220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5840" y="1714680"/>
            <a:ext cx="850104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Methodological approaches for capturing the impact of Leader and of measures to improve quality of life in rural areas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900000" y="4292640"/>
            <a:ext cx="745992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 and process of the Thematic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ICHAEL HEGA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elpdesk 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6868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83720" indent="-3402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es a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closing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3720" indent="-340200">
              <a:spcBef>
                <a:spcPts val="601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Concluding drafting activit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or the gu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3720" indent="-3402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 to the </a:t>
            </a:r>
            <a:r>
              <a:rPr b="0" lang="pl-PL" sz="2400" spc="-1" strike="noStrike">
                <a:solidFill>
                  <a:srgbClr val="006666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xpert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3720" indent="-340200">
              <a:spcBef>
                <a:spcPts val="601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Fine-tun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Working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3720" indent="-340200">
              <a:spcBef>
                <a:spcPts val="601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Dissemin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definition of relevant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follow-up activit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help make the guidance more operational to Member St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ACB9-72DE-4088-B92B-7B043386ABB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STEP 3: VALIDATION &amp; FINA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221000"/>
            <a:ext cx="889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Timeline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) </a:t>
            </a: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finalisation workshop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, May 18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i)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finalisation drafting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of Working Paper 3 (WP3), May 26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ii) presentation of WP3 to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Expert Committee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, early Jun</a:t>
            </a: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e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v) Fine-tuning and dissemination of guidance and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definition of </a:t>
            </a:r>
            <a:br>
              <a:rPr sz="2000"/>
            </a:br>
            <a:r>
              <a:rPr b="1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    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follow-up activities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, end Jun</a:t>
            </a: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463"/>
                </a:solidFill>
                <a:latin typeface="Arial"/>
              </a:rPr>
              <a:t>Thank you for your attention!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5311800" cy="3578040"/>
          </a:xfrm>
          <a:prstGeom prst="rect">
            <a:avLst/>
          </a:prstGeom>
          <a:ln w="0">
            <a:noFill/>
          </a:ln>
        </p:spPr>
      </p:pic>
      <p:sp>
        <p:nvSpPr>
          <p:cNvPr id="127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9CC0-C92B-4A31-8E16-3B795D0B749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0A2A-20C5-475C-9591-5A08C283828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tel 1"/>
          <p:cNvSpPr/>
          <p:nvPr/>
        </p:nvSpPr>
        <p:spPr>
          <a:xfrm>
            <a:off x="0" y="0"/>
            <a:ext cx="6516720" cy="1197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CONTENT OF THE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Inhaltsplatzhalter 2"/>
          <p:cNvSpPr/>
          <p:nvPr/>
        </p:nvSpPr>
        <p:spPr>
          <a:xfrm>
            <a:off x="395280" y="1628640"/>
            <a:ext cx="8229600" cy="38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 States’ needs for methodological guid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s in assessing impacts for Leader and Quality of Life (axes 3 &amp;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hematic working group (TWG) proc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Objectives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expected results, proposed methods,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1E67-B0A9-4001-A6F1-2432E38CCAC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Inhaltsplatzhalter 2"/>
          <p:cNvSpPr/>
          <p:nvPr/>
        </p:nvSpPr>
        <p:spPr>
          <a:xfrm>
            <a:off x="395280" y="1484280"/>
            <a:ext cx="81374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s assessment conducted throug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ocus Groups (2008 &amp; 2009) in Member States (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issions to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eetings / other contacts with evaluation community from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MEMBER STATES’ NEEDS FOR METHODOLOGICAL GUIDANC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D35C-F9A1-4BF5-AD17-9675AF46593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Inhaltsplatzhalter 2"/>
          <p:cNvSpPr/>
          <p:nvPr/>
        </p:nvSpPr>
        <p:spPr>
          <a:xfrm>
            <a:off x="468360" y="155736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findings of needs assessment for evaluation of impacts of axes 3 &amp; 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00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veloping adequate definitions, criteria and indicators for LEADER and Quality of Lif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ackling the qualitative nature of the effe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dentifying contributions of small-scale interven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ing the stimulation of cultural change through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isentangle Leader effects from deadweight, double counting, displacement and other intervention policies (viz. counterfact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olving beneficiaries in the evaluation process (reliable data, active participation in the evaluation proc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MEMBER STATES’ NEEDS FOR METHODOLOGICAL GUIDANC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current identified challenges (draft Concept Note) complementing needs assess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88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Common Evaluation Questio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re challenging – assessing effects of the Leader approach, and contribution to improved qualit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88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ssing the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“double scope” of Lead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process and produ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88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ry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little guidance in CME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although some previous experience from Leader II &amp; Leader+, &amp; Quality of Life 2000-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88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er+ stressed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“structuring a common evaluation strateg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t all levels…&amp; should follow an overall bottom-up approach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88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Gaps in evaluator specialis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contextual knowledge, experi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88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aling with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diffuse distribution of effec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 terms of time, geography, community and n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88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MEF requirements estimating impact at: a)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local leve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 and b) contribution to general trend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at programm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CHALLENGES IN ASSESSING IMPACTS OF LEADER AND QUALITY OF LIFE 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571A-9924-4848-94EC-4962375D5A9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THE THEMATIC WORKING GROUP PROCESS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provide practical methodological guidance in assessing the impacts of Leader and measures to improve the Quality of Life through rural development programm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cte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guidance document describing state-of-the-art and current/good evaluation practice and complementary tools, to suppo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6080" indent="-228600">
              <a:spcBef>
                <a:spcPts val="451"/>
              </a:spcBef>
              <a:buClr>
                <a:srgbClr val="00646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</a:rPr>
              <a:t>programme evaluators/MAs to make use of </a:t>
            </a:r>
            <a:r>
              <a:rPr b="1" lang="en-GB" sz="1800" spc="-1" strike="noStrike">
                <a:solidFill>
                  <a:srgbClr val="006463"/>
                </a:solidFill>
                <a:latin typeface="Arial"/>
              </a:rPr>
              <a:t>optimal approaches to rural development evaluation</a:t>
            </a:r>
            <a:r>
              <a:rPr b="0" lang="en-GB" sz="1800" spc="-1" strike="noStrike">
                <a:solidFill>
                  <a:srgbClr val="006463"/>
                </a:solidFill>
                <a:latin typeface="Arial"/>
              </a:rPr>
              <a:t> and …..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lvl="2" marL="1216080" indent="-228600">
              <a:spcBef>
                <a:spcPts val="451"/>
              </a:spcBef>
              <a:buClr>
                <a:srgbClr val="00646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</a:rPr>
              <a:t>to </a:t>
            </a:r>
            <a:r>
              <a:rPr b="1" lang="en-GB" sz="1800" spc="-1" strike="noStrike">
                <a:solidFill>
                  <a:srgbClr val="006463"/>
                </a:solidFill>
                <a:latin typeface="Arial"/>
              </a:rPr>
              <a:t>select appropriate evaluation methods and tools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lvl="2" marL="1216080" indent="-228600">
              <a:spcBef>
                <a:spcPts val="451"/>
              </a:spcBef>
              <a:buClr>
                <a:srgbClr val="00646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</a:rPr>
              <a:t>development of </a:t>
            </a:r>
            <a:r>
              <a:rPr b="1" lang="en-GB" sz="1800" spc="-1" strike="noStrike">
                <a:solidFill>
                  <a:srgbClr val="006463"/>
                </a:solidFill>
                <a:latin typeface="Arial"/>
              </a:rPr>
              <a:t>convergent methods of RDP evaluation</a:t>
            </a:r>
            <a:r>
              <a:rPr b="0" lang="en-GB" sz="1800" spc="-1" strike="noStrike">
                <a:solidFill>
                  <a:srgbClr val="006463"/>
                </a:solidFill>
                <a:latin typeface="Arial"/>
              </a:rPr>
              <a:t> at EU-level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6330-A1D1-4495-B054-A66D80463D6A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THE THEMATIC WORKING GROUP PROCESS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1484280"/>
            <a:ext cx="7777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3-step proces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raf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Validation and fina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STEP 1: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686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1360" indent="-441360">
              <a:spcBef>
                <a:spcPts val="601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initiat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TWG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lising the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Concept No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thering and reviewing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current evaluation pract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state-of-the-ar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Leader and Quality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al kick-off of the process through a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worksho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A714-0ACD-4355-BF93-5DEDADDF6F0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716280"/>
            <a:ext cx="889308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6463"/>
                </a:solidFill>
                <a:uFillTx/>
                <a:latin typeface="Arial"/>
                <a:ea typeface="Arial"/>
              </a:rPr>
              <a:t>Timeline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) </a:t>
            </a: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draft Concept Note, Nov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i) questionnaire survey of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current practice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in MS, by Dec 18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ii)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document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drafted on current practice in MS, by Jan 1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v) </a:t>
            </a: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d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ocument drafted on </a:t>
            </a:r>
            <a:r>
              <a:rPr b="1" lang="en-GB" sz="2000" spc="-1" strike="noStrike">
                <a:solidFill>
                  <a:srgbClr val="006666"/>
                </a:solidFill>
                <a:latin typeface="Arial"/>
                <a:ea typeface="Arial"/>
              </a:rPr>
              <a:t>state-of-the-art practices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, by Jan 1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v)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TWG composition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confirmed, by Jan 1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vi) launch of TWG through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workshop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n Brussels, Jan 26 (or 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686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activity develops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draft working pape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ing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state-of-the-ar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aluation methods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incorporation of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detailed current pract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specific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evaluation challeng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Member Stat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wing also on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global exper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3FAE-C0E0-41DD-AD85-5BF5CE93D83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STEP 2: DRAF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716280"/>
            <a:ext cx="874872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6463"/>
                </a:solidFill>
                <a:uFillTx/>
                <a:latin typeface="Arial"/>
                <a:ea typeface="Arial"/>
              </a:rPr>
              <a:t>Timeline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) </a:t>
            </a: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draft Working Paper 1 (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WP1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), Mar. 4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i) workshop in MS, bringing forward detailed current practic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    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Mar 22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ii) revised draft Working Paper 2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(WP2), sent to MS, Apr.16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v) 2nd workshop in MS (if required) for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further current practice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    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Apr 29 → incorporated into Working Paper 3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(WP3), May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23:27Z</dcterms:created>
  <dc:creator>AEIDL</dc:creator>
  <dc:description/>
  <dc:language>en-US</dc:language>
  <cp:lastModifiedBy>zaoujjo</cp:lastModifiedBy>
  <cp:lastPrinted>2008-05-30T14:18:28Z</cp:lastPrinted>
  <dcterms:modified xsi:type="dcterms:W3CDTF">2009-12-08T08:32:23Z</dcterms:modified>
  <cp:revision>454</cp:revision>
  <dc:subject/>
  <dc:title>EENRD presentation</dc:title>
</cp:coreProperties>
</file>